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1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DD8-5FC1-483E-A582-CF58755E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D9E-7954-4E5D-80B1-2319411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B37-4068-43EB-BAD8-4DBD0507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1B0-1896-4BE5-AD76-A5F83DC5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3E8E-0CA2-4DAB-9A0B-5499207A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020-2431-44E6-A151-0037DBD2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74D-4FE9-45AD-811D-978B7CE9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0320-434C-469A-836E-2B38C9CA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CAD-A1B5-4532-870D-D207A2DA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78D9-FFED-48F8-A6F2-08B4106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0A7-4F90-4FED-8209-F238247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E25-F49E-4B46-8190-A8EEF0D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705F-2F52-4174-8000-1E6AF36988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 технологии  в  ДО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479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Ребенок воспитывается разными случайностями, его окружающими. Педагогика должна дать направление этим случайностям.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. Ф. Одоевск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?id=453721281-30-72&amp;n=21"/>
          <p:cNvPicPr/>
          <p:nvPr/>
        </p:nvPicPr>
        <p:blipFill>
          <a:blip r:embed="rId1"/>
          <a:stretch/>
        </p:blipFill>
        <p:spPr>
          <a:xfrm>
            <a:off x="395280" y="40464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?id=570050893-32-72&amp;n=21"/>
          <p:cNvPicPr/>
          <p:nvPr/>
        </p:nvPicPr>
        <p:blipFill>
          <a:blip r:embed="rId2"/>
          <a:stretch/>
        </p:blipFill>
        <p:spPr>
          <a:xfrm>
            <a:off x="6659640" y="2708280"/>
            <a:ext cx="21495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Человек не может по настоящему усовершенствоваться, если не помогает усовершенствоваться друг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арльз Диккен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ворческих Вам успехов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28760" y="5143680"/>
            <a:ext cx="172224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Технологии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дагоги, активно использующие проектную технологию в воспитании и обучении дошкольников, единодушно отмечают, что организованная по ней жизнедеятельность в детском саду позволяет лучше узнать воспитанников, проникнуть во внутренний мир ребен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3708360" y="5157720"/>
            <a:ext cx="158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Классификация учебных проектов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38120" y="817560"/>
            <a:ext cx="8267760" cy="542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258920" y="5084640"/>
            <a:ext cx="1225440" cy="1398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1187280" y="2349360"/>
            <a:ext cx="142884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3" descr=""/>
          <p:cNvPicPr/>
          <p:nvPr/>
        </p:nvPicPr>
        <p:blipFill>
          <a:blip r:embed="rId1"/>
          <a:stretch/>
        </p:blipFill>
        <p:spPr>
          <a:xfrm>
            <a:off x="438120" y="317520"/>
            <a:ext cx="8267760" cy="582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258920" y="4797360"/>
            <a:ext cx="1427040" cy="142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i?id=99128009-65-72&amp;n=21"/>
          <p:cNvPicPr/>
          <p:nvPr/>
        </p:nvPicPr>
        <p:blipFill>
          <a:blip r:embed="rId3"/>
          <a:stretch/>
        </p:blipFill>
        <p:spPr>
          <a:xfrm>
            <a:off x="90000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ипы проект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Содержимое 4" descr=""/>
          <p:cNvPicPr/>
          <p:nvPr/>
        </p:nvPicPr>
        <p:blipFill>
          <a:blip r:embed="rId1"/>
          <a:stretch/>
        </p:blipFill>
        <p:spPr>
          <a:xfrm>
            <a:off x="444600" y="1547640"/>
            <a:ext cx="8254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"/>
          <p:cNvPicPr/>
          <p:nvPr/>
        </p:nvPicPr>
        <p:blipFill>
          <a:blip r:embed="rId1"/>
          <a:stretch/>
        </p:blipFill>
        <p:spPr>
          <a:xfrm>
            <a:off x="438120" y="433440"/>
            <a:ext cx="826776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33300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стоящее время педагогические коллективы ДОУ интенсивно внедряют в работу инновационные технологии. Поэтому основная задача  педагогов дошкольного учрежден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– выбрать методы и формы организации работы с детьми, инновационные педагогические технологии, которые оптимально соответствуют поставленной цели развития лич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1" descr="0b54c9c1204b"/>
          <p:cNvPicPr/>
          <p:nvPr/>
        </p:nvPicPr>
        <p:blipFill>
          <a:blip r:embed="rId1"/>
          <a:stretch/>
        </p:blipFill>
        <p:spPr>
          <a:xfrm>
            <a:off x="395280" y="4292640"/>
            <a:ext cx="1357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временные педагогические технологии в дошкольном образовании направлены на реализацию государственных стандартов до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ципиально важной стороной в педагогической технологии является позиция ребенка в воспитательно-образовательном процессе, отношение к ребенку со стороны взрослых. Взрослый в общении с детьми придерживается положения: «Не рядом, не над ним, а вместе!». Ег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- содействовать становлению ребенка как лич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287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ехнолог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424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это совокупность приемов, применяемых в каком-либо деле, мастерстве, искусств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Основные требования (критерии) педагогической технологи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32176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"/>
          <p:cNvPicPr/>
          <p:nvPr/>
        </p:nvPicPr>
        <p:blipFill>
          <a:blip r:embed="rId1"/>
          <a:stretch/>
        </p:blipFill>
        <p:spPr>
          <a:xfrm>
            <a:off x="438120" y="390600"/>
            <a:ext cx="826776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38120" y="96840"/>
            <a:ext cx="82612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труктура образовательной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4" descr=""/>
          <p:cNvPicPr/>
          <p:nvPr/>
        </p:nvPicPr>
        <p:blipFill>
          <a:blip r:embed="rId1"/>
          <a:stretch/>
        </p:blipFill>
        <p:spPr>
          <a:xfrm>
            <a:off x="450720" y="1706400"/>
            <a:ext cx="826632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Современные образовательные техноло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но-ориентированные технолог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портфолио дошкольника и воспитател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овая технолог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нология «ТРИЗ» и др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4" descr="j0428113[1]"/>
          <p:cNvPicPr/>
          <p:nvPr/>
        </p:nvPicPr>
        <p:blipFill>
          <a:blip r:embed="rId1"/>
          <a:stretch/>
        </p:blipFill>
        <p:spPr>
          <a:xfrm>
            <a:off x="6516720" y="4508640"/>
            <a:ext cx="187164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Владимир</cp:lastModifiedBy>
  <dcterms:modified xsi:type="dcterms:W3CDTF">2015-06-25T10:54:57Z</dcterms:modified>
  <cp:revision>108</cp:revision>
  <dc:subject/>
  <dc:title>Слайд 1</dc:title>
</cp:coreProperties>
</file>